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369-B306-47F6-8BEA-3463DE0B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52F-E448-49B6-BCF0-8E7DD684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441-EC52-453B-999C-65662DE2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D85-2C0D-4698-9EDE-DD7DF6DB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3DE-851F-4549-9883-F37C9358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16A-60DB-488C-AC8C-2AAA3199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BFA-658C-48F6-AF4F-F117317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259-B905-4E26-B7EB-B26FD69F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643-DD4E-4DEB-BD88-7FD92C45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012-0EF0-4700-A908-6400F97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40A-DA35-4D24-BABF-B808438B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AB9-B0B0-4DD0-8680-C843B66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669D-F7C0-4CF2-8FE4-1775FD59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kNPBy2i0ss" TargetMode="External"/><Relationship Id="rId2" Type="http://schemas.openxmlformats.org/officeDocument/2006/relationships/hyperlink" Target="http://www.youtube.com/watch?v=peg6rjYPocQ" TargetMode="External"/><Relationship Id="rId3" Type="http://schemas.openxmlformats.org/officeDocument/2006/relationships/hyperlink" Target="http://www.youtube.com/watch?v=peg6rjYPocQ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YeRSgiypbc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9907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ohr’s Mod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the atom – 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looks lik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16765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s (e-) orbi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ound the center of the a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2590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center of the atom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(nucleus) has all the protons (p+) and the neutrons (n</a:t>
            </a:r>
            <a:r>
              <a:rPr b="0" lang="en-US" sz="2400" spc="-1" strike="noStrike" baseline="30000">
                <a:solidFill>
                  <a:srgbClr val="996600"/>
                </a:solidFill>
                <a:latin typeface="Times New Roman"/>
              </a:rPr>
              <a:t>Ø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19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en is an atom an ato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d when is it an 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oms are neutr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(no electric charge). the # of protons (p+) and electrons (e-) must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4"/>
          <a:stretch/>
        </p:blipFill>
        <p:spPr>
          <a:xfrm>
            <a:off x="685800" y="1752480"/>
            <a:ext cx="2827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lium a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uminu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495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s are not neutral.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y are charged. # of protons do not equal the number of electr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ium Ion                             Alumin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35268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+ =  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- =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429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+ =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- = 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3733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= + 1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= -1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572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member ato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lose or gain p+s to become an ion.  They must gain or lose e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139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 pg. 132 and draw an atom of Oxygen and an Oxygen Ion with a gain of 1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523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1523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-  Bohr’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del uses circles to show 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70866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ving away fro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nucleus, the more circles,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re energy levels.  Low energy near the center, hig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371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 hold only so many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981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lectron Cloud Mod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nergy levels like Bohr model, but electrons DO NOT orbit in a fixed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895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urrent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us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re on th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del when (and if) you take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-4    Forces with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Push or pull; can move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8288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forces within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286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Gravity –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force of attraction exerted between all objects in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66688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extremely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large objects have noticeable gravitational fo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0481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re massiv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more gra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--less massive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less gr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4290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ravity in atom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VERY VERY SM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886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Electromagnetic – force that can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attract or repel charged parti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267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pposite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attract, ther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7242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Pro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+) and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elec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-)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181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like charge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pel (electrons repel other elec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44792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k wait a sec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f like charges repel,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why do they not fly away and destroy the atom?  Because they are stuck in the energy levles, but they do get as far awa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4382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k, wait a sec again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pel each other too, but yet they are tightly packed within the nucleus..explain how ol’ wise 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200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Strong – force that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“glues” protons together.  Only works at clos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distances</a:t>
            </a:r>
            <a:r>
              <a:rPr b="0" lang="en-US" sz="20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eason protons are tightly pack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862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3962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eak – force responsible for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radioactive decay.  Mostly found in the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nucl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724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Neutrons break into protons and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5:48:30Z</dcterms:created>
  <dc:creator>jpak</dc:creator>
  <dc:description/>
  <dc:language>en-US</dc:language>
  <cp:lastModifiedBy>User</cp:lastModifiedBy>
  <dcterms:modified xsi:type="dcterms:W3CDTF">2010-08-09T00:14:43Z</dcterms:modified>
  <cp:revision>26</cp:revision>
  <dc:subject/>
  <dc:title>Note guide 4-3</dc:title>
</cp:coreProperties>
</file>